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6F8-EB1C-4A95-8E2B-161AAEC0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1F2-23D3-4C8F-9C20-D73EDF94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20B-93C9-4ADF-9013-D6DAFA25B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241-5F76-4A58-B368-657BE103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4090-EEE1-4931-AC7F-521B04ED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AB74-B8D5-4CAA-A685-64D32F11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E87D-DB59-49E3-A20D-AC535214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436E-3B23-4FBE-99B1-BC9F971D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8986-D751-4DD1-A461-B82B68B0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B99-D2D6-42D3-9238-DF80D6C4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53ECA-43FA-483D-8538-EDED99B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8116-8804-4CB4-A9D5-827E1C80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1813-AAAD-4DC6-AD8B-A05768E55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7F54-468E-4015-BE5D-12F04449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B7238-1047-4FDE-9BA9-FEDB816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8134-04B1-41A3-ABB5-A167AC986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8278-B3F9-46A3-9353-48A5D6F4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DE4-B141-4B8E-B05F-C8FBFC31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D10-F32D-4664-B3A9-3CE43C4F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E551-23DD-426C-A456-F4125D5D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F3C-B0C9-437F-85DA-F11F0D14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0890-6A7F-40A2-ABF7-A6E430C5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E2C6-A27D-467C-88F4-0EDE240F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610-7EB1-4359-9DD6-052D744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D7CC-A877-45CE-944F-B89C3A04EFC0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C23A-046E-46F1-8834-9743AD202C51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yecenter.com.ua/teach/trans/shema11.gi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ch1354.znaet.ru/im.xp/050048056053124050054056048048056057051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a3d7a"/>
                </a:solidFill>
                <a:latin typeface="Times New Roman"/>
              </a:rPr>
              <a:t>Современный урок сегодня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учающий семинар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0.09.2012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900000" y="981000"/>
          <a:ext cx="7772400" cy="57150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4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бое знание личности школьника и классных коллектив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ый учет обученности, обучаемости, учебных и воспитательных возможностей класса, детей разных возрастов и групп (предварительно должна быть составлена психолого-педагогическая карта   на каждого учащегося)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12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диционный подход к называнию темы урока в соответствии с текстом государственных программ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к поиску и формулированию, кроме темы, еще и имени урока в виде яркого афоризма, крылатой фразы, поговорки, эмоционально выражающих суть главной идеи урока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900000" y="981000"/>
          <a:ext cx="7772400" cy="51213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9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Педагогичесие задачи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обуче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Задачи воспит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дачи развит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в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здорови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26920" y="1125360"/>
          <a:ext cx="7772400" cy="49993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2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2.     Задачи развития образовательного процесса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че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знавательны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Исследовательски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00000" y="1197000"/>
          <a:ext cx="7772400" cy="43275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оценка специального продумывания задач урока, неполнота их планировани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плексное проектирование задач по трем группам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31a03"/>
                          </a:solidFill>
                          <a:latin typeface="Times New Roman"/>
                        </a:rPr>
                        <a:t>3.     Задачи саморазвития учителя: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фессионального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остно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55640" y="907920"/>
          <a:ext cx="8083440" cy="5478480"/>
        </p:xfrm>
        <a:graphic>
          <a:graphicData uri="http://schemas.openxmlformats.org/drawingml/2006/table">
            <a:tbl>
              <a:tblPr/>
              <a:tblGrid>
                <a:gridCol w="4041720"/>
                <a:gridCol w="404172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2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груженность содержания учебного материала, приводящая к невозможности усвоить все изложенное на уроке, потеря сути за деталями, за обилием второстепенного материала. 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лавный принцип отбора содержания: чем больший объем дан детям, тем лучш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язательное выделение в содержании учебного материала объекта главного усвоения, т.е. существенного, отработка на уроке именно эт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место прежнего подхода «чем больше, тем лучше» - новый «выделение главного, существенного»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2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продумывания ценностных оснований учебного материала на уроке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мывание и формулирование ценностных оснований выбора содержания и трактовки учебного материала на уроке</a:t>
                      </a:r>
                      <a:endParaRPr b="0" lang="en-US" sz="19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71640" y="981000"/>
          <a:ext cx="7700760" cy="5334120"/>
        </p:xfrm>
        <a:graphic>
          <a:graphicData uri="http://schemas.openxmlformats.org/drawingml/2006/table">
            <a:tbl>
              <a:tblPr/>
              <a:tblGrid>
                <a:gridCol w="381456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стремления к раскрытию личностного смысла конкретных знаний для большинства учеников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емление учителя раскрыть детям для себя личностный смысл изучаемого на уроке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норирование межпредметных связей и, как следствие этого, отсутствие межпредметной координации учебного материала. Ошибочно полагать, что целостная мировоззренческая картина мира возникнет у детей автоматическ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ора на межпредметные связи с целью формирования у учащихся полного и целостного представления о системе знаний с целью развития эрудиции учеников, а при необходимости осуществление учителем межпредметной координации учебного материал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907920"/>
          <a:ext cx="8064360" cy="5594400"/>
        </p:xfrm>
        <a:graphic>
          <a:graphicData uri="http://schemas.openxmlformats.org/drawingml/2006/table">
            <a:tbl>
              <a:tblPr/>
              <a:tblGrid>
                <a:gridCol w="4032000"/>
                <a:gridCol w="40323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орванность теоретических знаний от их использования или недостаточное внимание к применению знаний. Осознанное или неосознанное формирование человека только знающего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обеспечение практической направленности учебного процесса, создание реальных возможностей применения учащимися полученных знаний. Осуществление перехода от человека знающего к человеку знающему, понимающему и деятельному.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сутствие на уроке упражнений по использованию знаний в измененных обстоятельствах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ключение в содержание урока упражнений творческого характера по использованию полученных знаний в аналогичных, частично новых и полностью незнакомых условиях</a:t>
                      </a:r>
                      <a:endParaRPr b="0" lang="en-US" sz="1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00000" y="981000"/>
          <a:ext cx="7772400" cy="499896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noFill/>
                  </a:tcPr>
                </a:tc>
              </a:tr>
              <a:tr h="381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дность арсенала методов обучения, одностороннее увлечение то одними, то другими методами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условное знание системной классификации методов обучения и только обоснованный выбор оптимального сочетания и соотношения, исходящий из сильных и слабых сторон метода и конкретных особенностей класса и отдельных учащихся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a50021"/>
                        </a:buClr>
                        <a:buSzPct val="7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большую ценность в школ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 представляют методы развития познавательного интереса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Выдающийся педагог Г.К. Селевко провел анализ педагогических технологий. Описал более 50 из них и сгруппировал их следующим образом:</a:t>
            </a:r>
            <a:endParaRPr b="0" lang="en-US" sz="2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, основанные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уманизации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ебного процесса (педагогика сотрудничества, гуманно-личностная технология Ш.А. Амонашвили; система преподавания литературы как предмета, формирующего человека, Е.Н. Ильин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Технологии на основ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активизации и интенсификации деятельност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91623"/>
                </a:solidFill>
                <a:latin typeface="Times New Roman"/>
              </a:rPr>
              <a:t>учащихся (игровые технологии, проблемное обучение, технология обучения на основе опорных конспектов В.Ф. Шаталова, коммуникативное обучение Е.И. Пассова и др.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хнологии на основе эффективности организации и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управления процессом обучения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граммированное обучение, технологии дифференцированного обучения, индивидуализации учебного процесса, опережающего обучения, компьютерные (информационные) технологии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048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План работ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ования к урок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X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зентация урока-победител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урок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которые пожелания будущим участникам конкурса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 и суждения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logo_left"/>
          <p:cNvPicPr/>
          <p:nvPr/>
        </p:nvPicPr>
        <p:blipFill>
          <a:blip r:embed="rId1"/>
          <a:stretch/>
        </p:blipFill>
        <p:spPr>
          <a:xfrm>
            <a:off x="0" y="0"/>
            <a:ext cx="2268360" cy="236232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Селевко Г.К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8839080" cy="40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технологии на основе методического усовершенствования и дидактического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реконструирования учебного материал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укрупнение дидактических единиц (УДЕ) П.М. Эрдниева (известное как блочная система планирования), технология «Диалог культур» В.Е. Библера и С.Ю. Куртанова, технология теории поэтапного формирования умственных действий М.Б.Воловича, технология модульного обучения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a3d7a"/>
                </a:solidFill>
                <a:latin typeface="Times New Roman"/>
              </a:rPr>
              <a:t>Участие в конкурсах профессионального мастерства – один из путей осуществления профессионального рост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Учитель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й дебю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ероссийский конкурс  «Молодой учитель»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дагогические олимпиад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31a03"/>
                </a:solidFill>
                <a:latin typeface="Times New Roman"/>
              </a:rPr>
              <a:t>Мой лучший уро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нет-конкурсы: Всероссийский фестиваль «Открытый урок» и др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a3d7a"/>
                </a:solidFill>
                <a:latin typeface="Times New Roman"/>
              </a:rPr>
              <a:t>Грантовая поддержка педагогов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ловек год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получение денежного поощрения лучшими учителям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курс на соискание премий Томской области в сфере образования, науки, здравоохранения и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уроку </a:t>
            </a:r>
            <a:br>
              <a:rPr sz="4000"/>
            </a:br>
            <a:r>
              <a:rPr b="1" lang="en-US" sz="4000" spc="-1" strike="noStrike">
                <a:solidFill>
                  <a:srgbClr val="2a3d7a"/>
                </a:solidFill>
                <a:latin typeface="Times New Roman"/>
              </a:rPr>
              <a:t>XXI 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века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211640" y="4365720"/>
            <a:ext cx="4464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31a03"/>
                </a:solidFill>
                <a:latin typeface="Times New Roman"/>
              </a:rPr>
              <a:t>Учитель – главный субъект управления своим профессиональным ростом!!!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М.М.Поташни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1" name="Picture 6" descr="C:\Users\ЦМС\Documents\Методич работа\Семинар Мой лучш\урок 21 века.jpg"/>
          <p:cNvPicPr/>
          <p:nvPr/>
        </p:nvPicPr>
        <p:blipFill>
          <a:blip r:embed="rId1"/>
          <a:stretch/>
        </p:blipFill>
        <p:spPr>
          <a:xfrm>
            <a:off x="324000" y="476280"/>
            <a:ext cx="3768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381024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вычка к прямому заимствованию готовых методических разработок урок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знание, забвение, несоблюдение принципов дидактик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6360" y="1773360"/>
            <a:ext cx="4122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чителя самостоятельно разрабатывать поурочные планы своих уроков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ние системы принципов дидактики, обязательная опора на них при проектировании и осуществлении обр. деят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8" name="Picture 5" descr="Картинка 2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81240" y="765000"/>
            <a:ext cx="5468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1" name="Picture 5" descr="Картинка 3 из 5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565200"/>
            <a:ext cx="806616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44280"/>
            <a:ext cx="424188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тивопоставление творчества и программно-методической дисциплины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блонная структура урока (комбинированный урок при постоянном наборе структурных частей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40360" y="1773360"/>
            <a:ext cx="4698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чное в закономерностях и принципах и одновременно творческое, т.е. личностное выполнение программно-методических требований к урок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ние каждым учителем типологии уроков и только обоснованный выбор типа урока, наилучшим образом соответствующего его теме, цели, особенностям класса</a:t>
            </a:r>
            <a:r>
              <a:rPr b="0" lang="ru-RU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836640"/>
          <a:ext cx="7993080" cy="936720"/>
        </p:xfrm>
        <a:graphic>
          <a:graphicData uri="http://schemas.openxmlformats.org/drawingml/2006/table">
            <a:tbl>
              <a:tblPr/>
              <a:tblGrid>
                <a:gridCol w="3997440"/>
                <a:gridCol w="3995640"/>
              </a:tblGrid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Недостатки сложившейся практики урока в школе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Требования 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к уроку </a:t>
                      </a:r>
                      <a:r>
                        <a:rPr b="1" i="1" lang="en-US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XXI </a:t>
                      </a:r>
                      <a:r>
                        <a:rPr b="1" i="1" lang="ru-RU" sz="2400" spc="-1" strike="noStrike">
                          <a:solidFill>
                            <a:srgbClr val="2a3d7a"/>
                          </a:solidFill>
                          <a:latin typeface="Times New Roman"/>
                        </a:rPr>
                        <a:t>века</a:t>
                      </a: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Picture 2" descr="C:\Users\ЦМС\Documents\Методич работа\Семинар Мой лучш\Поташник.jpg"/>
          <p:cNvPicPr/>
          <p:nvPr/>
        </p:nvPicPr>
        <p:blipFill>
          <a:blip r:embed="rId1"/>
          <a:stretch/>
        </p:blipFill>
        <p:spPr>
          <a:xfrm>
            <a:off x="1692360" y="4149720"/>
            <a:ext cx="28083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0T20:37:21Z</dcterms:created>
  <dc:creator>Школа 4</dc:creator>
  <dc:description/>
  <dc:language>en-US</dc:language>
  <cp:lastModifiedBy>ЦМС</cp:lastModifiedBy>
  <dcterms:modified xsi:type="dcterms:W3CDTF">2012-09-20T05:32:06Z</dcterms:modified>
  <cp:revision>101</cp:revision>
  <dc:subject/>
  <dc:title>Проект.</dc:title>
</cp:coreProperties>
</file>