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799-5F1B-4004-A61A-BED07702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B3C-B356-4FAA-84E1-427EF2F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4D7-6C06-4C9D-BDE4-848A132B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C2B-7F5F-42AC-905A-226EA80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B7F-0223-4F2C-98B6-382EFFDD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0CD-117F-462F-A621-F4BB0B2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B79-6F89-422D-80B5-EB76372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5EA1-0D1B-4128-A39A-545364D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152-1C89-4CDD-81C1-2569BE21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2787-D906-4CD4-BF8A-2A876D0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EE1-C842-488D-AE60-1EC58EB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659-9DA5-420D-A0CD-514F973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E79-9008-4B3B-871E-2B644CBF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00FB-3FE8-465E-8CE0-9B1CFB4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021-F633-4067-985C-0233707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CEC3-FEE0-475D-A464-8A540A91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5B2-559B-4B64-A147-FA6F69FF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DF1-39FF-4E75-9B2D-60B43F1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8CD-EF05-4A25-A14A-55DFEB4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078-D1F9-4BA1-9251-09BB849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33D-5751-473B-9207-0B11C34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5DD-B575-41E9-8418-191F574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5F7-033B-439C-9529-DE0E2BA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F24-7969-4C92-BC70-81BBB21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75E-914E-4798-8260-9CEF8642429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2286-16E9-41CA-876A-3B674EF6D465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yecenter.com.ua/teach/trans/shema11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h1354.znaet.ru/im.xp/050048056053124050054056048048056057051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a3d7a"/>
                </a:solidFill>
                <a:latin typeface="Times New Roman"/>
              </a:rPr>
              <a:t>Современный урок сегодня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981000"/>
          <a:ext cx="7772400" cy="5715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ое знание личности школьника и классных коллектив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ый учет обученности, обучаемости, учебных и воспитательных возможностей класса, детей разных возрастов и групп (предварительно должна быть составлена психолого-педагогическая карта   на каждого учащегося)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диционный подход к называнию темы урока в соответствии с текстом государственных программ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к поиску и формулированию, кроме темы, еще и имени урока в виде яркого афоризма, крылатой фразы, поговорки, эмоционально выражающих суть главной идеи урока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981000"/>
          <a:ext cx="7772400" cy="5121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Педагогичесие задачи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обуче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дачи воспит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развит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в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дорови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125360"/>
          <a:ext cx="7772400" cy="4999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2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2.     Задачи развития образовательного процесса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сследователь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1197000"/>
          <a:ext cx="7772400" cy="4327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3.     Задачи саморазвития учителя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ого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907920"/>
          <a:ext cx="8083440" cy="5478480"/>
        </p:xfrm>
        <a:graphic>
          <a:graphicData uri="http://schemas.openxmlformats.org/drawingml/2006/table">
            <a:tbl>
              <a:tblPr/>
              <a:tblGrid>
                <a:gridCol w="4041720"/>
                <a:gridCol w="4041720"/>
              </a:tblGrid>
              <a:tr h="93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26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руженность содержания учебного материала, приводящая к невозможности усвоить все изложенное на уроке, потеря сути за деталями, за обилием второстепенного материала.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принцип отбора содержания: чем больший объем дан детям, тем лучш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ое выделение в содержании учебного материала объекта главного усвоения, т.е. существенного, отработка на уроке именно эт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о прежнего подхода «чем больше, тем лучше» - новый «выделение главного, существенного»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думывания ценностных оснований учебного материала на урок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мывание и формулирование ценностных оснований выбора содержания и трактовки учебного материала на уроке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981000"/>
          <a:ext cx="7700760" cy="5334120"/>
        </p:xfrm>
        <a:graphic>
          <a:graphicData uri="http://schemas.openxmlformats.org/drawingml/2006/table">
            <a:tbl>
              <a:tblPr/>
              <a:tblGrid>
                <a:gridCol w="381456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стремления к раскрытию личностного смысла конкретных знаний для большинства ученик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учителя раскрыть детям для себя личностный смысл изучаемого на уроке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норирование межпредметных связей и, как следствие этого, отсутствие межпредметной координации учебного материала. Ошибочно полагать, что целостная мировоззренческая картина мира возникнет у детей автоматическ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ора на межпредметные связи с целью формирования у учащихся полного и целостного представления о системе знаний с целью развития эрудиции учеников, а при необходимости осуществление учителем межпредметной координации учебн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907920"/>
          <a:ext cx="8064360" cy="55944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99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рванность теоретических знаний от их использования или недостаточное внимание к применению знаний. Осознанное или неосознанное формирование человека только знающе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обеспечение практической направленности учебного процесса, создание реальных возможностей применения учащимися полученных знаний. Осуществление перехода от человека знающего к человеку знающему, понимающему и деятельному.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на уроке упражнений по использованию знаний в измененных обстоятельствах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ие в содержание урока упражнений творческого характера по использованию полученных знаний в аналогичных, частично новых и полностью незнакомых условиях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981000"/>
          <a:ext cx="7772400" cy="4998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1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дность арсенала методов обучения, одностороннее увлечение то одними, то другими методам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знание системной классификации методов обучения и только обоснованный выбор оптимального сочетания и соотношения, исходящий из сильных и слабых сторон метода и конкретных особенностей класса и отдельных учащихс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ьшую ценность в школ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 представляют методы развития познавательного интерес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Выдающийся педагог Г.К. Селевко провел анализ педагогических технологий. Описал более 50 из них и сгруппировал их следующим образом: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, основанные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уманизации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ебного процесса (педагогика сотрудничества, гуманно-личностная технология Ш.А. Амонашвили; система преподавания литературы как предмета, формирующего человека, Е.Н. Ильин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ктивизации и интенсификации деятельност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ащихся (игровые технологии, проблемное обучение, технология обучения на основе опорных конспектов В.Ф. Шаталова, коммуникативное обучение Е.И. Пассов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на основе эффективности организации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правления процессом обучен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граммированное обучение, технологии дифференцированного обучения, индивидуализации учебного процесса, опережающего обучения, компьютерные (информационные) технолог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048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ования к урок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 урока-победител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уро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пожелания будущим участникам конкурс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и сужд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268360" cy="2362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методического усовершенствования и дидактическог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конструирования учебного матери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укрупнение дидактических единиц (УДЕ) П.М. Эрдниева (известное как блочная система планирования), технология «Диалог культур» В.Е. Библера и С.Ю. Куртанова, технология теории поэтапного формирования умственных действий М.Б.Воловича, технология модульного обучения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Участие в конкурсах профессионального мастерства – один из путей осуществления профессионального рост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Учитель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дебю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российский конкурс  «Молодой учитель»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олимпиад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Мой лучший уро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-конкурсы: Всероссийский фестиваль «Открытый урок»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Грантовая поддержка педагог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получение денежного поощрения лучшими учител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соискание премий Томской области в сфере образования, науки, здравоохранения и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уроку 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XXI 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век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11640" y="436572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1a03"/>
                </a:solidFill>
                <a:latin typeface="Times New Roman"/>
              </a:rPr>
              <a:t>Учитель – главный субъект управления своим профессиональным ростом!!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.М.Поташни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6" descr="C:\Users\ЦМС\Documents\Методич работа\Семинар Мой лучш\урок 21 века.jpg"/>
          <p:cNvPicPr/>
          <p:nvPr/>
        </p:nvPicPr>
        <p:blipFill>
          <a:blip r:embed="rId1"/>
          <a:stretch/>
        </p:blipFill>
        <p:spPr>
          <a:xfrm>
            <a:off x="324000" y="476280"/>
            <a:ext cx="3768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102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ычка к прямому заимствованию готовых методических разработок уро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знание, забвение, несоблюдение принципов дидакти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360" y="1773360"/>
            <a:ext cx="412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чителя самостоятельно разрабатывать поурочные планы своих уроко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ние системы принципов дидактики, обязательная опора на них при проектировании и осуществлении обр. дея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5" descr="Картинка 2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1240" y="765000"/>
            <a:ext cx="5468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5" descr="Картинка 3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65200"/>
            <a:ext cx="80661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2418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ивопоставление творчества и программно-методической дисципли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ная структура урока (комбинированный урок при постоянном наборе структурных частей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40360" y="1773360"/>
            <a:ext cx="469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е в закономерностях и принципах и одновременно творческое, т.е. личностное выполнение программно-методических требований к уро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каждым учителем типологии уроков и только обоснованный выбор типа урока, наилучшим образом соответствующего его теме, цели, особенностям класс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2" descr="C:\Users\ЦМС\Documents\Методич работа\Семинар Мой лучш\Поташник.jpg"/>
          <p:cNvPicPr/>
          <p:nvPr/>
        </p:nvPicPr>
        <p:blipFill>
          <a:blip r:embed="rId1"/>
          <a:stretch/>
        </p:blipFill>
        <p:spPr>
          <a:xfrm>
            <a:off x="1692360" y="4149720"/>
            <a:ext cx="2808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20:37:21Z</dcterms:created>
  <dc:creator>Школа 4</dc:creator>
  <dc:description/>
  <dc:language>en-US</dc:language>
  <cp:lastModifiedBy>User</cp:lastModifiedBy>
  <dcterms:modified xsi:type="dcterms:W3CDTF">2023-02-01T05:36:49Z</dcterms:modified>
  <cp:revision>102</cp:revision>
  <dc:subject/>
  <dc:title>Проект.</dc:title>
</cp:coreProperties>
</file>