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6D8-A5F8-4C71-98EC-A7658025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031-5EC1-4B21-962A-F4F301F4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11A-EBAC-4517-AC86-2C9FF454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F0C-0C63-44DD-94AB-5E8A53C4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0840-DDF3-4034-9761-F4453CA7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A510-8224-4A17-B8E9-6762087A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5D43-7D9A-41DC-81DF-502E2E36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D32C-227B-49EF-9528-47CDAB00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AF93-D02A-41F0-B83B-4143C7F5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C9B7-2AEB-48AA-B3F9-9F0F11D3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3884-A02A-45D9-AE61-069F569F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D14-2EBE-468A-BA54-AD482559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DDAD-75CC-439C-B3E5-B85765A9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7213-6049-4B37-B8D7-FB9A5AC4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0CA8-95A2-4813-9519-FD1AAAB7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5389-B0A7-4623-8E52-84E8AA4C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A647-6B62-4615-9318-AFB029D7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13E-2E22-49A2-8290-AB520D3A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6AB-E763-4A79-AC47-A67B59B5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F37-C0FD-4183-A454-CC8D04BD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7DE-0DFB-450F-A473-D64B6944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E6B-C1BF-474C-AFAF-45FEC01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D8E-2411-430E-B461-DEE0ABD4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E19-5F6A-4590-8937-76872B0D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9EAB-5698-4097-86D0-7DB7DB9F7EBA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1929-50E1-4C02-A4C1-D01E056402F9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yecenter.com.ua/teach/trans/shema11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ch1354.znaet.ru/im.xp/050048056053124050054056048048056057051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a3d7a"/>
                </a:solidFill>
                <a:latin typeface="Times New Roman"/>
              </a:rPr>
              <a:t>Современный урок сегодня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00000" y="981000"/>
          <a:ext cx="7772400" cy="5715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4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ое знание личности школьника и классных коллективов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условный учет обученности, обучаемости, учебных и воспитательных возможностей класса, детей разных возрастов и групп (предварительно должна быть составлена психолого-педагогическая карта   на каждого учащегося)</a:t>
                      </a:r>
                      <a:endParaRPr b="0" lang="en-US" sz="19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диционный подход к называнию темы урока в соответствии с текстом государственных программ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мление к поиску и формулированию, кроме темы, еще и имени урока в виде яркого афоризма, крылатой фразы, поговорки, эмоционально выражающих суть главной идеи урока</a:t>
                      </a:r>
                      <a:endParaRPr b="0" lang="en-US" sz="19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981000"/>
          <a:ext cx="7772400" cy="5121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5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оценка специального продумывания задач урока, неполнота их планиров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ное проектирование задач по трем группам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31a03"/>
                          </a:solidFill>
                          <a:latin typeface="Times New Roman"/>
                        </a:rPr>
                        <a:t>Педагогичесие задачи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 обуче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адачи воспит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 развит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ативны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здоровительны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26920" y="1125360"/>
          <a:ext cx="7772400" cy="4999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2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оценка специального продумывания задач урока, неполнота их планиров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ное проектирование задач по трем группам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31a03"/>
                          </a:solidFill>
                          <a:latin typeface="Times New Roman"/>
                        </a:rPr>
                        <a:t>2.     Задачи развития образовательного процесса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и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Исследовательски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0000" y="1197000"/>
          <a:ext cx="7772400" cy="4327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15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оценка специального продумывания задач урока, неполнота их планиров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ное проектирование задач по трем группам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31a03"/>
                          </a:solidFill>
                          <a:latin typeface="Times New Roman"/>
                        </a:rPr>
                        <a:t>3.     Задачи саморазвития учителя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ессионального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ого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5640" y="907920"/>
          <a:ext cx="8083440" cy="5478480"/>
        </p:xfrm>
        <a:graphic>
          <a:graphicData uri="http://schemas.openxmlformats.org/drawingml/2006/table">
            <a:tbl>
              <a:tblPr/>
              <a:tblGrid>
                <a:gridCol w="4041720"/>
                <a:gridCol w="4041720"/>
              </a:tblGrid>
              <a:tr h="93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26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груженность содержания учебного материала, приводящая к невозможности усвоить все изложенное на уроке, потеря сути за деталями, за обилием второстепенного материала.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принцип отбора содержания: чем больший объем дан детям, тем лучш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ное выделение в содержании учебного материала объекта главного усвоения, т.е. существенного, отработка на уроке именно этого материал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о прежнего подхода «чем больше, тем лучше» - новый «выделение главного, существенного»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продумывания ценностных оснований учебного материала на урок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мывание и формулирование ценностных оснований выбора содержания и трактовки учебного материала на уроке</a:t>
                      </a:r>
                      <a:endParaRPr b="0" lang="en-US" sz="19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981000"/>
          <a:ext cx="7700760" cy="5334120"/>
        </p:xfrm>
        <a:graphic>
          <a:graphicData uri="http://schemas.openxmlformats.org/drawingml/2006/table">
            <a:tbl>
              <a:tblPr/>
              <a:tblGrid>
                <a:gridCol w="3814560"/>
                <a:gridCol w="3886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стремления к раскрытию личностного смысла конкретных знаний для большинства учеников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мление учителя раскрыть детям для себя личностный смысл изучаемого на уроке материал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норирование межпредметных связей и, как следствие этого, отсутствие межпредметной координации учебного материала. Ошибочно полагать, что целостная мировоззренческая картина мира возникнет у детей автоматически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ора на межпредметные связи с целью формирования у учащихся полного и целостного представления о системе знаний с целью развития эрудиции учеников, а при необходимости осуществление учителем межпредметной координации учебного материал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907920"/>
          <a:ext cx="8064360" cy="5594400"/>
        </p:xfrm>
        <a:graphic>
          <a:graphicData uri="http://schemas.openxmlformats.org/drawingml/2006/table">
            <a:tbl>
              <a:tblPr/>
              <a:tblGrid>
                <a:gridCol w="4032000"/>
                <a:gridCol w="4032360"/>
              </a:tblGrid>
              <a:tr h="99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1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орванность теоретических знаний от их использования или недостаточное внимание к применению знаний. Осознанное или неосознанное формирование человека только знающего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условное обеспечение практической направленности учебного процесса, создание реальных возможностей применения учащимися полученных знаний. Осуществление перехода от человека знающего к человеку знающему, понимающему и деятельному.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на уроке упражнений по использованию знаний в измененных обстоятельствах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ключение в содержание урока упражнений творческого характера по использованию полученных знаний в аналогичных, частично новых и полностью незнакомых условиях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00000" y="981000"/>
          <a:ext cx="7772400" cy="49989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1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дность арсенала методов обучения, одностороннее увлечение то одними, то другими методами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условное знание системной классификации методов обучения и только обоснованный выбор оптимального сочетания и соотношения, исходящий из сильных и слабых сторон метода и конкретных особенностей класса и отдельных учащихс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большую ценность в школ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ка представляют методы развития познавательного интерес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Выдающийся педагог Г.К. Селевко провел анализ педагогических технологий. Описал более 50 из них и сгруппировал их следующим образом: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785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Технологии, основанные н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уманизации </a:t>
            </a: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учебного процесса (педагогика сотрудничества, гуманно-личностная технология Ш.А. Амонашвили; система преподавания литературы как предмета, формирующего человека, Е.Н. Ильина и др.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Технологии на основ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ктивизации и интенсификации деятельност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учащихся (игровые технологии, проблемное обучение, технология обучения на основе опорных конспектов В.Ф. Шаталова, коммуникативное обучение Е.И. Пассова и др.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елевко Г.К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883908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и на основе эффективности организации 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правления процессом обучени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граммированное обучение, технологии дифференцированного обучения, индивидуализации учебного процесса, опережающего обучения, компьютерные (информационные) технологи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5" descr="logo_left"/>
          <p:cNvPicPr/>
          <p:nvPr/>
        </p:nvPicPr>
        <p:blipFill>
          <a:blip r:embed="rId1"/>
          <a:stretch/>
        </p:blipFill>
        <p:spPr>
          <a:xfrm>
            <a:off x="0" y="0"/>
            <a:ext cx="2048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ования к урок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я урока-победител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урок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оторые пожелания будущим участникам конкурс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 и суждени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logo_left"/>
          <p:cNvPicPr/>
          <p:nvPr/>
        </p:nvPicPr>
        <p:blipFill>
          <a:blip r:embed="rId1"/>
          <a:stretch/>
        </p:blipFill>
        <p:spPr>
          <a:xfrm>
            <a:off x="0" y="0"/>
            <a:ext cx="2268360" cy="2362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елевко Г.К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883908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 на основе методического усовершенствования и дидактическог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еконструирования учебного материа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укрупнение дидактических единиц (УДЕ) П.М. Эрдниева (известное как блочная система планирования), технология «Диалог культур» В.Е. Библера и С.Ю. Куртанова, технология теории поэтапного формирования умственных действий М.Б.Воловича, технология модульного обучения и д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Участие в конкурсах профессионального мастерства – один из путей осуществления профессионального рост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a03"/>
                </a:solidFill>
                <a:latin typeface="Times New Roman"/>
              </a:rPr>
              <a:t>Учитель год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дебю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российский конкурс  «Молодой учитель»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е олимпиад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a03"/>
                </a:solidFill>
                <a:latin typeface="Times New Roman"/>
              </a:rPr>
              <a:t>Мой лучший уро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ет-конкурсы: Всероссийский фестиваль «Открытый урок» и д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Грантовая поддержка педагогов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год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курс на получение денежного поощрения лучшими учителям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курс на соискание премий Томской области в сфере образования, науки, здравоохранения и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уроку </a:t>
            </a:r>
            <a:br>
              <a:rPr sz="4000"/>
            </a:b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XXI 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век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11640" y="4365720"/>
            <a:ext cx="446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1a03"/>
                </a:solidFill>
                <a:latin typeface="Times New Roman"/>
              </a:rPr>
              <a:t>Учитель – главный субъект управления своим профессиональным ростом!!!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.М.Поташни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Picture 6" descr="C:\Users\ЦМС\Documents\Методич работа\Семинар Мой лучш\урок 21 века.jpg"/>
          <p:cNvPicPr/>
          <p:nvPr/>
        </p:nvPicPr>
        <p:blipFill>
          <a:blip r:embed="rId1"/>
          <a:stretch/>
        </p:blipFill>
        <p:spPr>
          <a:xfrm>
            <a:off x="324000" y="476280"/>
            <a:ext cx="3768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1024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ычка к прямому заимствованию готовых методических разработок урок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знание, забвение, несоблюдение принципов дидактик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360" y="1773360"/>
            <a:ext cx="412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чителя самостоятельно разрабатывать поурочные планы своих уроков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ние системы принципов дидактики, обязательная опора на них при проектировании и осуществлении обр. деят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00000" y="836640"/>
          <a:ext cx="7993080" cy="93672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Picture 5" descr="Картинка 2 из 5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1240" y="765000"/>
            <a:ext cx="54687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5" descr="Картинка 3 из 5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65200"/>
            <a:ext cx="806616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42418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ивопоставление творчества и программно-методической дисциплин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блонная структура урока (комбинированный урок при постоянном наборе структурных частей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40360" y="1773360"/>
            <a:ext cx="4698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ное в закономерностях и принципах и одновременно творческое, т.е. личностное выполнение программно-методических требований к урок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е каждым учителем типологии уроков и только обоснованный выбор типа урока, наилучшим образом соответствующего его теме, цели, особенностям класса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836640"/>
          <a:ext cx="7993080" cy="93672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2" descr="C:\Users\ЦМС\Documents\Методич работа\Семинар Мой лучш\Поташник.jpg"/>
          <p:cNvPicPr/>
          <p:nvPr/>
        </p:nvPicPr>
        <p:blipFill>
          <a:blip r:embed="rId1"/>
          <a:stretch/>
        </p:blipFill>
        <p:spPr>
          <a:xfrm>
            <a:off x="1692360" y="4149720"/>
            <a:ext cx="28083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0T20:37:21Z</dcterms:created>
  <dc:creator>Школа 4</dc:creator>
  <dc:description/>
  <dc:language>en-US</dc:language>
  <cp:lastModifiedBy>User</cp:lastModifiedBy>
  <dcterms:modified xsi:type="dcterms:W3CDTF">2023-02-01T05:41:42Z</dcterms:modified>
  <cp:revision>102</cp:revision>
  <dc:subject/>
  <dc:title>Проект.</dc:title>
</cp:coreProperties>
</file>